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F4330-6AB1-4048-B4A5-1B82780A0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2290E-B89C-4C09-A678-1AB743FFC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AD09E-C303-4131-A709-3EF8BB8D5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C858F-37D8-4E62-9782-83F6EED63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6AE15-5D14-478A-BF4A-940BA6F73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6B6D6-4574-457F-A91A-2B6988E0F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0131E-0DA2-407A-9A83-AF7E0AF0D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33B4A-5D0D-41E9-8922-717A59D5C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6A90B-9639-4D2B-B5F1-EAB0B47F4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5C524-1901-4242-A402-265CD63B8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934EF-282B-45BF-8951-ED394CDA2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80CFF-24FF-4562-AEBA-D62DD8ACD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055DC-0B82-4C32-B5AC-E3F1F34E50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ter Purifier </a:t>
            </a:r>
            <a:endParaRPr b="0" lang="en-US" sz="4400" spc="-1" strike="noStrike">
              <a:solidFill>
                <a:srgbClr val="ffffff"/>
              </a:solidFill>
              <a:latin typeface="Arial"/>
            </a:endParaRPr>
          </a:p>
        </p:txBody>
      </p:sp>
      <p:sp>
        <p:nvSpPr>
          <p:cNvPr id="42" name="PlaceHolder 2"/>
          <p:cNvSpPr>
            <a:spLocks noGrp="1"/>
          </p:cNvSpPr>
          <p:nvPr>
            <p:ph type="subTitle"/>
          </p:nvPr>
        </p:nvSpPr>
        <p:spPr>
          <a:xfrm>
            <a:off x="5867280" y="6095520"/>
            <a:ext cx="327672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racy Penner</a:t>
            </a:r>
            <a:endParaRPr b="0" lang="en-US" sz="3200" spc="-1" strike="noStrike">
              <a:solidFill>
                <a:srgbClr val="ffffff"/>
              </a:solidFill>
              <a:latin typeface="Arial"/>
            </a:endParaRPr>
          </a:p>
        </p:txBody>
      </p:sp>
      <p:pic>
        <p:nvPicPr>
          <p:cNvPr id="43" name="" descr=""/>
          <p:cNvPicPr/>
          <p:nvPr/>
        </p:nvPicPr>
        <p:blipFill>
          <a:blip r:embed="rId1"/>
          <a:stretch/>
        </p:blipFill>
        <p:spPr>
          <a:xfrm>
            <a:off x="2743200" y="1752480"/>
            <a:ext cx="3809880" cy="3810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a:t>
            </a:r>
            <a:endParaRPr b="0" lang="en-US" sz="4400" spc="-1" strike="noStrike">
              <a:solidFill>
                <a:srgbClr val="ffffff"/>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best way to purifier w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ypothecs </a:t>
            </a:r>
            <a:endParaRPr b="0" lang="en-US" sz="4400" spc="-1" strike="noStrike">
              <a:solidFill>
                <a:srgbClr val="ffffff"/>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think the water will purifier better if I heat the water 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terials</a:t>
            </a:r>
            <a:endParaRPr b="0" lang="en-US" sz="4400" spc="-1" strike="noStrike">
              <a:solidFill>
                <a:srgbClr val="ffffff"/>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ffee filt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rch</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cedure </a:t>
            </a:r>
            <a:endParaRPr b="0" lang="en-US" sz="44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Pot water in a contain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Pot dirt in the water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Poor water on the coffee filt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Mix water in chlorine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Pot dirty water on the stove till boil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riables </a:t>
            </a:r>
            <a:endParaRPr b="0" lang="en-US" sz="4400" spc="-1" strike="noStrike">
              <a:solidFill>
                <a:srgbClr val="ffffff"/>
              </a:solidFill>
              <a:latin typeface="Arial"/>
            </a:endParaRPr>
          </a:p>
        </p:txBody>
      </p:sp>
      <p:sp>
        <p:nvSpPr>
          <p:cNvPr id="53" name=""/>
          <p:cNvSpPr/>
          <p:nvPr/>
        </p:nvSpPr>
        <p:spPr>
          <a:xfrm>
            <a:off x="457200" y="1600200"/>
            <a:ext cx="8305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380880" y="1676520"/>
            <a:ext cx="8229600" cy="452592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he water and the dirt the same and change it bye adding a coffee filter, heating it up,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sults</a:t>
            </a:r>
            <a:endParaRPr b="0" lang="en-US" sz="4400" spc="-1" strike="noStrike">
              <a:solidFill>
                <a:srgbClr val="ffffff"/>
              </a:solidFill>
              <a:latin typeface="Arial"/>
            </a:endParaRPr>
          </a:p>
        </p:txBody>
      </p:sp>
      <p:sp>
        <p:nvSpPr>
          <p:cNvPr id="56" name="PlaceHolder 2"/>
          <p:cNvSpPr>
            <a:spLocks noGrp="1"/>
          </p:cNvSpPr>
          <p:nvPr>
            <p:ph/>
          </p:nvPr>
        </p:nvSpPr>
        <p:spPr>
          <a:xfrm>
            <a:off x="228600" y="15238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ffee filter made the water  drinkable. It went from dirty water to clea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ckground Information</a:t>
            </a:r>
            <a:endParaRPr b="0" lang="en-US" sz="4400" spc="-1" strike="noStrike">
              <a:solidFill>
                <a:srgbClr val="ffffff"/>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ly three-quarters of the earth’s surface is covered with water, a stunning 326 million cubic miles of water. Yet only three-tenths of one percent of the earth’s water can be used by humans. The Seven Seas might dominate the globe, but this usable water is only found in groundwater aquifers, rivers, and freshwater lake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he United States uses about 346,000 million gallons of fresh water every day. The recommended personal daily intake of eight cups a day – a luxury in the developing world – is just a small part of our total consumption. The average person in the U.S. will use anywhere from 80-100 gallons per day. Most of it is the result of flushing toilets!</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Sterling JrHigh</cp:lastModifiedBy>
  <cp:lastPrinted>2009-04-22T19:24:48Z</cp:lastPrinted>
  <dcterms:modified xsi:type="dcterms:W3CDTF">2010-05-07T13:45:46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